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967-3E68-44E0-B8A1-C28F72EE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4FD-6BE8-4150-AB3F-04802268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FD8-C238-4092-84B3-6880B1CD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1BA-1B2F-4B17-8EF3-B22C4609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36C-61C2-411E-A0DC-DE6F0CB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F12-9173-43CE-92C9-D6F81FE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05B-4692-472E-A528-FE3F7D01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502-12D6-40B7-A1DE-6FAD507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737-F137-42DF-B8B8-3D73A1B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008-B190-4BE7-A342-9A2E4680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3DC-7265-4D88-B2D3-592BC61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70B-55DE-42A4-9A69-EB7E641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AEF-0268-45BB-9E91-BEF920BD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75452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403280" y="333360"/>
            <a:ext cx="67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2060640"/>
            <a:ext cx="237636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28200">
            <a:off x="323640" y="1197000"/>
            <a:ext cx="1873080" cy="1295280"/>
          </a:xfrm>
          <a:prstGeom prst="rightArrow">
            <a:avLst>
              <a:gd name="adj1" fmla="val 57917"/>
              <a:gd name="adj2" fmla="val 377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di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799000">
            <a:off x="539280" y="2708280"/>
            <a:ext cx="1873440" cy="1512720"/>
          </a:xfrm>
          <a:prstGeom prst="rightArrow">
            <a:avLst>
              <a:gd name="adj1" fmla="val 40787"/>
              <a:gd name="adj2" fmla="val 2734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08360" y="1267920"/>
            <a:ext cx="5763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297600">
            <a:off x="3347640" y="333000"/>
            <a:ext cx="2305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00720" y="1628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25400">
            <a:off x="6084360" y="981000"/>
            <a:ext cx="223236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421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726000">
            <a:off x="6443280" y="2133720"/>
            <a:ext cx="180036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997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914400">
            <a:off x="6084360" y="3357360"/>
            <a:ext cx="1986120" cy="992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732360" y="429264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95400">
            <a:off x="5579640" y="4797360"/>
            <a:ext cx="208764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 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9:30Z</dcterms:created>
  <dc:creator>studente</dc:creator>
  <dc:description/>
  <dc:language>en-US</dc:language>
  <cp:lastModifiedBy>studente</cp:lastModifiedBy>
  <dcterms:modified xsi:type="dcterms:W3CDTF">2017-01-09T10:01:23Z</dcterms:modified>
  <cp:revision>7</cp:revision>
  <dc:subject/>
  <dc:title>Diapositiva 1</dc:title>
</cp:coreProperties>
</file>